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0984-EAB3-47D5-A15F-EEB4FFD43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FC08-A396-435D-8A10-7392EC2C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CA010-F904-451C-A465-1FD3C8CB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A7F63-46EE-4F90-A275-B743D2CF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87429-8D04-440D-83C4-71E3F860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792AB-5E90-4B42-81CD-240F7BB8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8D8F0-DF27-415D-BC60-D0FB3F21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5BF4B-E2E2-48A8-B4B3-4C8B87E1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C9267-59B8-4127-B84E-CF70EA2C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12371-0AA6-4FEC-8A58-2CE9D2887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C0B96-293F-4B29-8CB4-1987C9707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CEB3F-75B3-44A5-9F15-CCB763E54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9A50-0C28-4729-AE35-979E91B85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D4A6D-EE81-4B6B-A290-97EB14AD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B0907-9041-462E-B9B3-A3875BC9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5EF61-4305-42D3-A13B-8F40128B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6108E-5A01-463F-8364-D0422719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6535D-C0BF-4261-8DFA-3E3B996B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E8264-DDDE-4C16-A9D1-7C699874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1456D-B893-4A6C-89BE-45368CAB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B9B86-53D9-4E95-B46F-07B987B5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AAD97-BBCF-49FD-853F-2756D9F9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B1661-5971-4A2E-BFD6-011FBA7F3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DD82-1575-4C2C-8467-FFAC21A3E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F4598-4AA9-487C-AEA8-C771AE5F3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06095-ABF6-44E0-A6D0-7B5504D6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2CF26-A601-4D53-97AF-4DB7EA67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F016E-2B83-49A3-876E-E431479E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6FD9CD-F543-46A5-802A-4718D0DD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8F65A-C5C9-487B-84EC-75B2F7BE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78490-99D1-4BDE-9350-430926E5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9DC2A-F04C-49FD-B445-5C524934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C6883-9107-4A0D-8C78-DC176E96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4F530-1FBB-490F-B71F-1BDE0FDD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9779F-0EC5-4488-91BC-FCAD4F6D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FCDBA-8402-48F0-BD57-3EC087F46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FE439C-2558-4D29-9A69-3980225A5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9A1661-8804-480B-981F-14C810D65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1DA196-3294-4EE1-8EC8-51CD6364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C620BD-EA69-4F74-878C-115A4E2F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DD9542-AE18-4B88-ADA4-C5D8E785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558C9-F5F5-45B2-8F44-696BCDAB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A8658B-8268-453F-AAEE-E1A1E387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3B1D87-7EF2-4F59-8B8A-DA7F4ABB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161C3-F1C3-490A-918E-AAF55B6A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4501C-C1EE-48A8-BE9C-C9230DE6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E45B17-3259-4334-85B2-852CA64A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775ED9-B73C-4EBD-B19A-DFA234A0E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186E28-20F5-41BB-BD27-EC8429F43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556E6-615C-4B57-8D85-B0933B6A4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0C668-FABC-411A-B031-4C7D05F8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1CAA0-B349-4271-A42C-40C0C509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8B81C-E13D-4A25-811C-A68992A6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8057C-CB7E-48F6-9D73-F651A30E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CB39E-C85F-413E-8B27-55218769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C4852-3EFF-4B1B-B700-5A930716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ADAE4-EB88-4568-92B4-39AC21D2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665C1-2C1C-45EE-A974-A649061C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132C4-9839-4808-BDF3-EBABA521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02CBE-7161-4B9B-8735-6ECCE9441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00D33-8836-4310-A07E-E713214D5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E070ED-0D0F-466E-8B11-F3736EF67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AFBA7D-16D0-4244-9F5A-AC434E98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88CA61-3799-4B0E-A9B4-3F15F076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50118B-341B-4E9D-9837-4BD95BED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1400D3-004E-48A2-8FAF-C55A04F2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058FC7-8BC4-4EE0-B7CD-C3073204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7B8D21-AB40-4026-8B53-438D2172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75F7E-1004-4B5B-A6DB-0004BCC4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25A3F1-759B-40C9-B8D3-0E4AAEBD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E17DC0-0DE8-46B6-A158-E88ED3B8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BA7F31-BE5B-4016-8C74-48FEBCF7B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18D5F-66B3-41A8-B099-F7612058C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697D0D-FEC5-484D-8F58-8E37B81A1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A6A0BA-E61C-42F5-B709-0FDC103C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C5048C-6E4A-40B6-8294-2C5677D8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09399A-4942-4749-9D55-8FF6965A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26B66D-4EB2-49C5-AD67-C0148C41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396BEE-D2CA-4EEC-A5FC-237F640F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6EFD47-F0C3-493C-9D13-DAB6DA9E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397212-A798-40B1-9A7F-FDBC52C5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157B2C-788C-408D-A3D5-8759CA3D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C45D14-BF63-4A56-880B-003F482F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DBB33B-6837-4D0F-8CDA-20EC9DA00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59017D-C9D8-481F-B89B-377130E7E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41CDAA-B916-4B10-BC2C-739FA23E9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B55E54-3DD4-4EB4-BD44-DC34F1EB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DF67CD-1BD3-4F04-BC7F-0A554291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93D29B-191D-4F73-A631-D4CB80A0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728353-C7CE-4C67-A414-ABBF5C0B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324637-3D95-41C7-85B3-16678754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B42087-E202-4F10-ADF1-05DD6985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78D51E-6ECB-465A-8866-6A268CDF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CB1E00-32C4-4B48-B377-0EA73CDE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2D333F-29FE-458F-8AC5-1BBFDEDD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98C476-63E0-44C5-A4AA-26550899A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5190F0-D316-49F0-AD9D-830E4AFA7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C4C1F5-28FF-481B-B8B9-A20E51349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274343-1F91-4798-B5EE-E8EAD721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9AACAD-271A-41BB-A7A5-402FC9B6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3B465D-9542-413B-9D99-D4106C5F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A63410-7EAB-49F5-8C58-8B0DC486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4AABD5-E331-410C-81CC-4BE6F9C0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9168CC-A094-4618-B9ED-4DEE7761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0804-5EED-4297-BE31-3453E070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B1CA19-95B6-4783-B987-12DF6C97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B54549-523D-4A63-84CA-CA284DAA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DDEEFA-2934-452B-8308-843DB298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C21E66-0E7C-4F04-80BA-58AE19B1E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27FD25-59BE-496D-9860-DB00E7E32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C8E01B-F4AC-4EE9-A227-7DB6279E8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CF95ED-B698-433C-B1AF-28BEE3EB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2FAD2C-2B26-46AA-B415-8C8DC658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827B32-2A23-40F4-9453-ADA04492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19DFAE-C6ED-4086-888C-1833F610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177EC2-DBD7-4531-84B9-81A3AF0F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C280C2-E59F-44A1-A0F5-639ABA08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9F5C6E-5537-470E-9BFC-0A4FBC9A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C857D3-1B4A-4B19-B5B6-B08429A4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02B02C-817E-4FC7-A1C0-39782EE3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50E48D-5500-4710-98E0-722C7E2E5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F7F8BC-9423-4F3D-9055-8D4E54B0B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4E5DF2-8782-4060-8035-0EA0F7215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53A455-3432-4783-BC51-FC2B003A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AB628E-3A7C-4FF4-8807-79DBED2E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4558F2-F560-4881-B8E5-B29BB513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579B27-6FDE-4A8A-98E0-73E9DA7D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776EDE-2273-456E-A222-56512412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1681FD-5416-4802-A99C-9047326D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E7D496-6ECB-475B-B0DD-5C818DE7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FD2B1D-FA78-4B5F-B223-20C7C647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91EE87-BC1E-4098-B590-ED5C9479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32D67A-1ADD-4F3D-AD04-E9FF08338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AAA401-78EB-45D0-A0F6-F11E24E9D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5E0C23-846E-4759-BD49-CC77500D9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E2E807-D94E-4EC3-8391-BC8BBA10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919E92-519C-40D5-8F09-E8F0225C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609A60-5151-4572-95D8-2A4263C2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E43672-1734-414F-A58E-04427BBF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28E87D-667F-43FA-A51A-9A39ED16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EC2CA4-7B50-4E12-B2A9-4582CD63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7AD8F7-C708-42E7-9E36-1C3D489E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386DEB-290B-46A9-A2F3-2CAD0F2C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D3CE60-0466-457A-947C-C88A90B7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10684F-323C-4DEA-A0C6-D87207989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C1E456-D39E-43B4-920D-AC2F7DC42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1AE7BA-9AFA-437B-8398-8539B4834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F3C4F9-1D41-4A96-B0E4-830B78A3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37A9E6-896A-492C-9773-457F02E5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BCACFA-E7DA-4D37-9BB3-1120ED8E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7DE74F-845E-4D9D-BAF3-E12204B9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9D5581-EDEB-47A9-A83F-21FEEF6B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7DE921-D6D2-4F1D-AABE-ED461218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30E4F4-8BB3-4CCA-8ED3-35D668B4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31EBBE-42E8-4935-8EC0-522CEEB6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3E3002-BED9-49C1-8929-5B9A54B1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9546B7-D3D4-44D8-A437-11AF70DCB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6BDF20-8E2F-4ACA-8778-1A589F948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88F3B7-82E7-4087-8176-9EED9CCB3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832120-914B-47BE-92D1-3EBF4CFC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97D221-185F-4BAA-B97C-2FFA2DD2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1C0D2B-E31A-4E53-977B-98FA55B4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1640B3-7983-45D6-8987-1BA4080B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853BAC-6CC9-4511-81D6-73079373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0A3D0D-26DE-4415-8240-77EC30A3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53BED1-854B-4BE4-A19E-5CBFB422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A04B06-00DD-489B-986C-0AE6E91C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D2DD6C-2758-456C-B3FA-E0A23F44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96C831-27FE-43FD-9ADF-811D77B02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0015FA-3915-46D0-BCDD-9B3700FA8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CD9F23-9C54-4DDA-BE09-0E1849099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88C67E-A6BC-444E-8031-05D5DF1B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C341DE-D82E-4652-9EFA-47BB0017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D3A8B5-31A5-4C23-9F9E-13C45F8E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0355D2-948F-41A2-B0B1-4AF8EF1E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95A186-80D9-4F30-B830-BC1D732C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2B374C-423E-4065-B358-31D9037A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FF61FD-1619-4226-8A73-444DB80A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C4D9BD-C3D3-4374-9E9F-0606348D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B80AE4-0A4F-4FC9-8419-124778C3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920F55-DA19-4B5F-88A5-F8D55761A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D3804D-89D0-4130-9063-DB1D34494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831AED-734E-41C4-8203-859804528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868893-3ABD-4056-ABE2-56413B6C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86BF70-D3A1-49B0-9DB1-6988B937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69C576-751F-4D55-B6C3-7CA59EFD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2B3422-D7E7-49D6-A7E7-21C4C596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E67D4F-2DD8-48B1-A6C1-A4465E9B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09F633-AB38-49A5-A563-E686313F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FF57DD-D2AD-4420-8D48-DD7B4CCC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3CA8C5-4CCF-44B6-84D7-0AA5AB83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0B652C-8B6F-4908-BBAF-8687A6F1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32CEB1-1FE1-4ECC-A22F-4B27DE567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E59EFE-6E98-4393-ADD9-296F0049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06633C-BA20-4863-B95B-EFE3A7489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F4C8FF-8814-43A7-9704-5B208093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DB01D5-1A8F-4635-AF8F-5C7060C5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4FDBF1-1DBC-47B4-B398-9A989A9B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70A6CE-124C-477D-AC34-0FD1D9BA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2E6495-2903-466D-8C58-C96EDC14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A4647C-D24D-4B4C-AFDF-2BAC5BAB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629422-4A4E-4E2F-859C-60BA1F26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CB6298-170A-4BFB-A1C2-D55784C2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D21346-11D7-4C69-B04E-04FBB8D7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3C232B-D6DF-45AA-98C9-D06828BC9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8BBC-EA8E-46A6-B065-97EADF61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9BADEB-9584-456C-BDA1-2884638BB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8F195B-1D4C-4809-A0D3-63C713B7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C54D2C-4DD6-4516-AD6C-A0A5956F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05EE1C-D4C0-4CAA-8DFA-E1B0870F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C89EAC-F5C9-456B-83D2-6B75D39C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758FA3-A448-429A-8C3E-1741A800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60D718-F226-469E-A4E5-0CB15C10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0074F3-15C5-4DB8-9FBC-624197E3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6DFD95-6EDB-495A-A2A2-889BC7F1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1332EB-28AD-4707-AE50-328039DE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4389E4A-2F6F-4892-A887-9D28DC95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AE45FF-1D0B-4683-BBDB-D3A2124FF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690673-C545-44EB-9C17-BE0D82405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F7D7-88B5-49D1-AE6D-C91B73E67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3703-35F9-4046-9D5B-E23C5E2C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3B81-8043-4387-A381-32CB223F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9DA2-802D-40BE-8ECD-826F71DE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2A32-B44D-4DCD-A648-B040619C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5EF1-37CC-4543-A0C4-9F376457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2653-CB87-403B-A7F2-599DB1B6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CD3B-DD1F-4EE7-91A4-34A516AB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3211-1808-404B-B86A-FA76DEB3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2B24-D470-4696-9D10-5BCC24DA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45D0-C4BD-42D1-9751-2B9390C4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54F3-F213-4CDF-B089-149C43BC8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49F6-153B-4F3B-B92B-3BAD3BE83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FCEFC-39A3-4BE2-8C18-5DCA0DBC6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EEC3-30CA-4389-A77B-0281DE6B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387E2-9D80-4F23-A7E4-D3FD64D7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087DA-933C-4729-B766-C6897C28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3D491-FEE5-45DA-BF1F-21000530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C7D18-876D-4B96-92CB-F61AB5A5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B5AC4-C2DE-406C-A4EE-B244BFA5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F0354-7654-4C84-A44E-67E6E1C9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A2B5C-C7ED-458C-A059-78489754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AF749-95A0-4198-AA7D-AB518F86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22799-8E93-4559-B70E-20005FA4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8EC41-3F24-4299-B9FF-93814E4BE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E178-0506-40CA-B983-40185AD3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682C5-FCD5-4641-B56D-1FDD1CC8B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D3BC5-2304-469A-9B46-CE10BAF97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47B0A-D2E4-47F6-B8A4-6EB45823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DB3E4-9CD5-4DE4-941E-E24C8872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C058D-CAAC-4F68-9782-C040DC50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83218-73FE-40BE-8919-34483FA7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2516A-5585-4FF2-87B0-7B18E4EA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4A941-F83A-4836-929E-C096FB2E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1C395-DA92-4756-98F5-C91F6D87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70B29-BE96-41EB-9BCF-42237A46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38E4-D438-4517-A76A-FD130284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07E4C-ACD4-43CC-8050-8B45C48F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F3EE1-50EE-4570-A619-5417CFF6E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9482D-6A50-490B-8119-FEF9824FF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E356C-4780-472D-B1BA-A75744291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43659-0C2A-4B92-82CA-AD9086D3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898FE-4B70-49F2-B422-B8FBCE2F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6A38F-669C-49A0-8C59-2F1C7BDC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C6137-38C6-41C8-945A-157EBD23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9F068-9D77-40C8-88BB-AF22666C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AC6DA-A552-4BD1-AE0B-064E1B7F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DD29-F415-47B9-8820-34C6A80F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9D693-9E8A-4B15-88FD-951D75E5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3BDF3-1DBC-44CD-8708-3ABDF741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3E1F8-59EA-49AC-A863-DF0C8692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DAFBB-C879-47D3-9F4C-677BE4BE5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2498D-F2BA-4BA7-A0E5-17C6E7498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C66E7-9E87-4B80-90B6-912ADA1C6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EF877-522E-4399-A3D9-1477B658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F8A80-2625-4FEF-9900-8BE96698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695A7-35F6-49A1-A264-42064831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62B89-036A-45EF-A9C0-E1A28AD0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26EA-5C66-4581-A57D-07A87CDB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D09EF-8D33-4177-9E27-718B2134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50E8C-297B-468D-BF71-B8B4AC3A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531B8-E9CB-40A1-A70A-059F2BD4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4C8FA-7062-44D7-99F8-3CF0ECB2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6B599-6A10-4E9D-AD20-D7A9C453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D030D-4758-4E07-B95E-8E39022AF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5CD4C-8B86-4C67-8A6A-372721EF5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496BA-9723-4568-A25F-4472D0D18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A845D-39A4-48C2-B019-82CC4ACB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68752-DF4E-453C-A973-F9A39594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79A6-5D66-4B1F-9675-88F2BD891726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2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643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644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645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1646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647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648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1649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650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651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1652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653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654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1655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656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657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58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59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60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661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62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63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664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65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66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667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68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69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670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71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72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673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74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75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676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77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78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679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80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81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682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83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84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685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86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87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688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89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90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691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92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93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694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95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96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697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98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99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700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01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02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703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04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05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706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07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08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709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10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11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712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13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14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715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16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17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718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19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1720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1721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grpSp>
              <p:nvGrpSpPr>
                <p:cNvPr id="1722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723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24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25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726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27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28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729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30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31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732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33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34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735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36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37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738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39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40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741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42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43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744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45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46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747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48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49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750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51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52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753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54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755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756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757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758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759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760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761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762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763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764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765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766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767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768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769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770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771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772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773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774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775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776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</p:grpSp>
      <p:sp>
        <p:nvSpPr>
          <p:cNvPr id="1777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Respond Question Master</a:t>
            </a:r>
            <a:endParaRPr b="0" lang="en-US" sz="4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778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.) Response A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779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.) Response B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780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.) Response C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781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.) Response D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782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.) Response E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783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Percent Complete 100%</a:t>
            </a:r>
            <a:endParaRPr b="0" lang="en-US" sz="1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784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00:30</a:t>
            </a:r>
            <a:endParaRPr b="0" lang="en-US" sz="1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DAA9-6226-43EB-90AC-EB46A2E2E5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4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825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826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827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1828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829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830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1831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832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833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1834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835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836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1837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838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839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840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1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42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843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4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45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846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7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48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849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50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1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852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53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4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855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56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7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858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59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60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861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62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63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864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65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66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867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68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69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870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71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72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873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74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75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876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77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78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879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80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81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882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83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84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885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86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87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888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89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90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891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92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93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894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95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96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897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98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99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900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01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1902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1903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grpSp>
              <p:nvGrpSpPr>
                <p:cNvPr id="1904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905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06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07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908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09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10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911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12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13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914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15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16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917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18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19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920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21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22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923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24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25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926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27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28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929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30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31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932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33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34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935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36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937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938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939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940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941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942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943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944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945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946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947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948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949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950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951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952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953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954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955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956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957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958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</p:grpSp>
      <p:sp>
        <p:nvSpPr>
          <p:cNvPr id="1959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Respond Question Master</a:t>
            </a:r>
            <a:endParaRPr b="0" lang="en-US" sz="4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960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.) Response A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961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.) Response B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962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.) Response C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963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.) Response D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964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.) Response E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965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Percent Complete 100%</a:t>
            </a:r>
            <a:endParaRPr b="0" lang="en-US" sz="1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966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00:30</a:t>
            </a:r>
            <a:endParaRPr b="0" lang="en-US" sz="1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967" name="PlaceHolder 1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51A0-5E0C-48F0-A85D-C99BE8A61F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6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200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00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009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201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01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012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201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01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015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2016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201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01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2019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2020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021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022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23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24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025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26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27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028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29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30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031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32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33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034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35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36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037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38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39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040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41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42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043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44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45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046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4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48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049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50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51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052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53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54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055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56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57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058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59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60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061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62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63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064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65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66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067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68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69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070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71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72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073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74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75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076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77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78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079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80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81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082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83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08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2085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grpSp>
              <p:nvGrpSpPr>
                <p:cNvPr id="2086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087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88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89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090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91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92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093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94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95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096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97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98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099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100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01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102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103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04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105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106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07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108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109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10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111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112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13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114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115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16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117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118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2119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120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12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122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123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12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12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126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127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128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129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13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131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132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133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134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13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13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137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138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139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140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</p:grpSp>
      <p:sp>
        <p:nvSpPr>
          <p:cNvPr id="2141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Respond Question Master</a:t>
            </a:r>
            <a:endParaRPr b="0" lang="en-US" sz="4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142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.) Response A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143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.) Response B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144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.) Response C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145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.) Response D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146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.) Response E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147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Percent Complete 100%</a:t>
            </a:r>
            <a:endParaRPr b="0" lang="en-US" sz="1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148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00:30</a:t>
            </a:r>
            <a:endParaRPr b="0" lang="en-US" sz="1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149" name="PlaceHolder 1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2A50-E059-4D24-AAFB-6AE7025EB5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8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2189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190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191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2192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193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194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2195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196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197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2198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2199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200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2201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2202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203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204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05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06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207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08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09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10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11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12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213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14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15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216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17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18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219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20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21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222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23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24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225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26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27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228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29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30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231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32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33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234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35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36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237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38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39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240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41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42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243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44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45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246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47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48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249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50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51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252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53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54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255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56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57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258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59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60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261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62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63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264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65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266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2267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grpSp>
              <p:nvGrpSpPr>
                <p:cNvPr id="2268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269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70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71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272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73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74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275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76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77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278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79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80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281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82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83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284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85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86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287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88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89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290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91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92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293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94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95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296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97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98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299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00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2301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302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303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304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305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306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307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308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309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310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311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312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313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314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315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316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317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318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319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320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321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322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</p:grpSp>
      <p:sp>
        <p:nvSpPr>
          <p:cNvPr id="2323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Respond Question Master</a:t>
            </a:r>
            <a:endParaRPr b="0" lang="en-US" sz="4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324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.) Response A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325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.) Response B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326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.) Response C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327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.) Response D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328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.) Response E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329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Percent Complete 100%</a:t>
            </a:r>
            <a:endParaRPr b="0" lang="en-US" sz="1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330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00:30</a:t>
            </a:r>
            <a:endParaRPr b="0" lang="en-US" sz="1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331" name="PlaceHolder 1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332" name="PlaceHolder 2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333" name="PlaceHolder 3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2CAA-67BC-4D83-9F3B-21FBD68DC0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237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37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37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237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37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37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237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37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37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238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238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38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238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238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38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38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8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38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38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9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39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39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9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39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39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9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39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39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9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0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40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0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0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40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0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0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40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0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0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41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1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1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41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1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1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41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1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1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41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2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2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42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2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2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42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2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2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42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2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3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43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3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3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43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3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3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43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3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3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44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4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4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44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4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4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44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4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44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244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grpSp>
              <p:nvGrpSpPr>
                <p:cNvPr id="245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45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5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5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45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5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5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45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5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5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46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6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6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46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6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6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46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6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6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46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7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7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47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7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7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47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7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7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47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7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8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48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8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248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48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48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48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48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48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48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49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49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49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49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49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49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49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49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49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49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50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50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50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50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50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</p:grpSp>
      <p:sp>
        <p:nvSpPr>
          <p:cNvPr id="2505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Respond Question Master</a:t>
            </a:r>
            <a:endParaRPr b="0" lang="en-US" sz="4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506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.) Response A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507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.) Response B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508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.) Response C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509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.) Response D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510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.) Response E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511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Percent Complete 100%</a:t>
            </a:r>
            <a:endParaRPr b="0" lang="en-US" sz="1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512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00:30</a:t>
            </a:r>
            <a:endParaRPr b="0" lang="en-US" sz="1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513" name="PlaceHolder 1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514" name="PlaceHolder 2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515" name="PlaceHolder 3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1215-41CC-463C-B1E5-B3BD27A8AE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2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2553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554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555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2556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557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558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2559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560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561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2562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2563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564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2565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2566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567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568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69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570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571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72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573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574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75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576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77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78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579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580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81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582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583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84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585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586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87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588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589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90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591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592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93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594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595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96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597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598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99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00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601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02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03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604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05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06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607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08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09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610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11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12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613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14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15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616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17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18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619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20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21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622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23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24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625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26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27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628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29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630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2631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grpSp>
              <p:nvGrpSpPr>
                <p:cNvPr id="2632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633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34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35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636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37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38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639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40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41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642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43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44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645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46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47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648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49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50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651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52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53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654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55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56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657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58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59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660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61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62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663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64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2665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666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667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668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669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670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671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672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673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674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675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676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677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678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679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680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681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682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683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684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685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686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</p:grpSp>
      <p:sp>
        <p:nvSpPr>
          <p:cNvPr id="2687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Respond Question Master</a:t>
            </a:r>
            <a:endParaRPr b="0" lang="en-US" sz="4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688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.) Response A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689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.) Response B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690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.) Response C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691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.) Response D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692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.) Response E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693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Percent Complete 100%</a:t>
            </a:r>
            <a:endParaRPr b="0" lang="en-US" sz="1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694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00:30</a:t>
            </a:r>
            <a:endParaRPr b="0" lang="en-US" sz="1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695" name="PlaceHolder 1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CCF8-2FDA-4C1A-BB54-BC25D92C7C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4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2735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736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737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2738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739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740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2741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742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743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2744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2745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746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2747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2748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749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750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51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52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753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54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55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756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57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58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759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60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61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762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63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64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765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66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67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768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69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70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771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72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73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774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75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76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777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78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79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780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81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82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783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84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85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786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87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88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789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90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91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792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93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94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795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96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97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798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99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00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801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02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03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804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05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06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807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08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09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810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11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812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2813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grpSp>
              <p:nvGrpSpPr>
                <p:cNvPr id="2814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815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16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17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818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19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20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821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22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23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824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25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26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827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28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29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830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31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32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833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34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35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836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37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38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839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40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41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842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43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44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845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46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2847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848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849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850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851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852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853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854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855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856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857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858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859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860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861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862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863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864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865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866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867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868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</p:grpSp>
      <p:sp>
        <p:nvSpPr>
          <p:cNvPr id="2869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1f08"/>
                </a:solidFill>
                <a:latin typeface="Arial Black"/>
              </a:rPr>
              <a:t>iRespond Graph</a:t>
            </a: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grpSp>
        <p:nvGrpSpPr>
          <p:cNvPr id="2870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2871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2872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2873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2874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67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2875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33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2876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100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2877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100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2878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67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2879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2880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2881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2882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2883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2884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A*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2885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B*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2886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2887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D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2888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E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2889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2890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2891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2892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2893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2894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2895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2896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2897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0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2898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2899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2900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sp>
        <p:nvSpPr>
          <p:cNvPr id="2901" name="PlaceHolder 1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19C4-B4A1-4860-8F28-DEFE6D1C6F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294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94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94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294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94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94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294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94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94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295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295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95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295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295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95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95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5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95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95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6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96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96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6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96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96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6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96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96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6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97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97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7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97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97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7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97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97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7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97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98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8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98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98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8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98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98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8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98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98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9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99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99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9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99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99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9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99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99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9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0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00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00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0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00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00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0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00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00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0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01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01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1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01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01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1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01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01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301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301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grpSp>
              <p:nvGrpSpPr>
                <p:cNvPr id="302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02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02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2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02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02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2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02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02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2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03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03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3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03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03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3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03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03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3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03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04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4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04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04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4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04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04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4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04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04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5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05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05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305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5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5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5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5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5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5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6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6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6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6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6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6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6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6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6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6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7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7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7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7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7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</p:grpSp>
      <p:sp>
        <p:nvSpPr>
          <p:cNvPr id="3075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1f08"/>
                </a:solidFill>
                <a:latin typeface="Arial Black"/>
              </a:rPr>
              <a:t>iRespond Graph</a:t>
            </a: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grpSp>
        <p:nvGrpSpPr>
          <p:cNvPr id="3076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3077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078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3079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3080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67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081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33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082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100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083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100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084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67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3085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3086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087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088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3089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3090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A*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091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B*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092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093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D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094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E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3095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3096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097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098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099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100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101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3102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3103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0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104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105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106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sp>
        <p:nvSpPr>
          <p:cNvPr id="3107" name="PlaceHolder 1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3108" name="PlaceHolder 2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3109" name="PlaceHolder 3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9AB9-B140-42B9-80B2-88FFD3BD6E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6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314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14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149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315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15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152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315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15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155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3156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315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15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3159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3160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161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162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163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164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165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166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167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168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169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170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171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172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173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174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175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176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77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178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179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180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181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182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183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184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185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186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18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188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189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190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191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192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193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194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195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196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197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198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199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200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201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02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203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204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05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206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207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08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209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210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11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212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213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14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215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216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17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218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219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20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221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222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23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322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3225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grpSp>
              <p:nvGrpSpPr>
                <p:cNvPr id="3226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227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28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229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230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31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232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233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34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235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236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37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238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239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40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241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242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43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244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245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46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247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248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49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250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251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52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253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254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55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256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257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58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3259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260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26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262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263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26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26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266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267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268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269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27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271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272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273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274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27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27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277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278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279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280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</p:grpSp>
      <p:sp>
        <p:nvSpPr>
          <p:cNvPr id="3281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1f08"/>
                </a:solidFill>
                <a:latin typeface="Arial Black"/>
              </a:rPr>
              <a:t>iRespond Graph</a:t>
            </a: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grpSp>
        <p:nvGrpSpPr>
          <p:cNvPr id="3282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3283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284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3285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3286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67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287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33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288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100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289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100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290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67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3291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3292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293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294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3295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3296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A*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297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B*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298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299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D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300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E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3301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3302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303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304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305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306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307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3308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3309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0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310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311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312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sp>
        <p:nvSpPr>
          <p:cNvPr id="3313" name="PlaceHolder 1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3314" name="PlaceHolder 2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3315" name="PlaceHolder 3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37BE-DE48-4A1C-B75F-67D09AA992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2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3353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354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355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3356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357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358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3359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360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361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3362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3363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364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3365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3366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367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368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369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70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371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372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73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374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375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76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377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378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79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380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381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82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383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384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85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386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387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88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389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390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91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392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393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94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395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396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97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398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399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400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401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402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403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404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405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406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407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408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409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410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411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412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413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414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415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416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417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418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419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420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421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422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423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424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425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426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427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428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429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3430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3431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grpSp>
              <p:nvGrpSpPr>
                <p:cNvPr id="3432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433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434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435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436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437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438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439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440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441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442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443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444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445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446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447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448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449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450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451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452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453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454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455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456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457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458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459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460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461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462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463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464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3465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466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467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468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469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470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471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472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473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474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475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476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477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478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479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480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481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482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483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484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485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486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</p:grpSp>
      <p:sp>
        <p:nvSpPr>
          <p:cNvPr id="3487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1f08"/>
                </a:solidFill>
                <a:latin typeface="Arial Black"/>
              </a:rPr>
              <a:t>iRespond Graph</a:t>
            </a: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grpSp>
        <p:nvGrpSpPr>
          <p:cNvPr id="3488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3489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490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3491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3492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67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493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33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494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100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495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100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496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67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3497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3498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499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500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3501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3502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A*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503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B*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504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505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D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506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E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3507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3508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509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510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511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512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513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3514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3515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0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516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517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518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sp>
        <p:nvSpPr>
          <p:cNvPr id="3519" name="PlaceHolder 1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3520" name="PlaceHolder 2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3521" name="PlaceHolder 3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CD7C-10EF-4732-9B10-3FC3CCED95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7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8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82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18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8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85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186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8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8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189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90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91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92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3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4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5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6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7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98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9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0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01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2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3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04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5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6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07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8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9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10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11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2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13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14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5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16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1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8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19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0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1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22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3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4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25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6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7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28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9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30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31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2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33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34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5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36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37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8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39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40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1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2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43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4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5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46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7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8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49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51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52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3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5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255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grpSp>
              <p:nvGrpSpPr>
                <p:cNvPr id="256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57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8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59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60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1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2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63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4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5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66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7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8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69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0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1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72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3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4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75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6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7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78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9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0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81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2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3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84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5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6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87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289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90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9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92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93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9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9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98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99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1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2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9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10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</p:grpSp>
      <p:sp>
        <p:nvSpPr>
          <p:cNvPr id="311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Respond Question Master</a:t>
            </a:r>
            <a:endParaRPr b="0" lang="en-US" sz="4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312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.) Response A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313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.) Response B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314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.) Response C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315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.) Response D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316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.) Response E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317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Percent Complete 100%</a:t>
            </a:r>
            <a:endParaRPr b="0" lang="en-US" sz="1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318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00:30</a:t>
            </a:r>
            <a:endParaRPr b="0" lang="en-US" sz="1400" spc="-1" strike="noStrike">
              <a:solidFill>
                <a:srgbClr val="fe1f08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8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3559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560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561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3562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563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564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3565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566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567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3568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3569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570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3571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3572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573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574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75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576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577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78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579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580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81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582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583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84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585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586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87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588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589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90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591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592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93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594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595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96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597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598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99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00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601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02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03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604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05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06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607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08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09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610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11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12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613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14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15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616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17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18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619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20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21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622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23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24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625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26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27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628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29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30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631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32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33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634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35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3636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3637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grpSp>
              <p:nvGrpSpPr>
                <p:cNvPr id="3638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639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40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41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642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43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44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645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46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47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648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49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50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651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52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53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654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55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56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657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58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59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660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61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62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663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64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65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666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67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68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669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70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3671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672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673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674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675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676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677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678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679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680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681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682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683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684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685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686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687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688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689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690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691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692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</p:grpSp>
      <p:sp>
        <p:nvSpPr>
          <p:cNvPr id="3693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1f08"/>
                </a:solidFill>
                <a:latin typeface="Arial Black"/>
              </a:rPr>
              <a:t>iRespond Graph</a:t>
            </a: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grpSp>
        <p:nvGrpSpPr>
          <p:cNvPr id="3694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3695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696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3697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3698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67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699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33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700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100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701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100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702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67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3703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3704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705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706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3707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3708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A*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709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B*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710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711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D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712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E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3713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3714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715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716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717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718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719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3720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3721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0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722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723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724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sp>
        <p:nvSpPr>
          <p:cNvPr id="3725" name="PlaceHolder 1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3726" name="PlaceHolder 2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3727" name="PlaceHolder 3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5D60-8079-47BB-8488-1DDFEB4982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4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3765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766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767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3768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769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770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3771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772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773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3774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3775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776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3777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3778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779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780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781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782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783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784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785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786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787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788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789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790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791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792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793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794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795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796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797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798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799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00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801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02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03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804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05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06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807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08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09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810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11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12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813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14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15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816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17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18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819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20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21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822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23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24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825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26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27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828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29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30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831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32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33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834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35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36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837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38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39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840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41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3842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3843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grpSp>
              <p:nvGrpSpPr>
                <p:cNvPr id="3844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845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46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47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848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49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50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851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52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53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854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55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56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857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58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59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860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61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62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863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64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65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866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67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68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869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70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71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872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73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74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875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76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3877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878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879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880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881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882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883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884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885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886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887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888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889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890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891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892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893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894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895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896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897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898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</p:grpSp>
      <p:sp>
        <p:nvSpPr>
          <p:cNvPr id="3899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1f08"/>
                </a:solidFill>
                <a:latin typeface="Arial Black"/>
              </a:rPr>
              <a:t>iRespond Graph</a:t>
            </a: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grpSp>
        <p:nvGrpSpPr>
          <p:cNvPr id="3900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3901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902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3903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3904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67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905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33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906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100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907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100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908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67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3909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3910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911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912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3913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3914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A*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915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B*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916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917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D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918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E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3919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3920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921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922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923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924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925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3926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3927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0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928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929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930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sp>
        <p:nvSpPr>
          <p:cNvPr id="3931" name="PlaceHolder 1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3932" name="PlaceHolder 2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3933" name="PlaceHolder 3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9577-7651-41D7-84D6-56EC37BABB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397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97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97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397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97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97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397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97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97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398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398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98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398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398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98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98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98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8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98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99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9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99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99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9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99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99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9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99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99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0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00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0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0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00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0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0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00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0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0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1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1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1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01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1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1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01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1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1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01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2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2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02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2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2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02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2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2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02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2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3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403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3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3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03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3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3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403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3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3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404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4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4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04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4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4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04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4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404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404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grpSp>
              <p:nvGrpSpPr>
                <p:cNvPr id="405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05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5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5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05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5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5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05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5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5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06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6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6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06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6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6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06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6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6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06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7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7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07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7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7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07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7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7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07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7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8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08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8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408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08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08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08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08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08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08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09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09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09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09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09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09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09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09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09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09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10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10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10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10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10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</p:grpSp>
      <p:sp>
        <p:nvSpPr>
          <p:cNvPr id="4105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1f08"/>
                </a:solidFill>
                <a:latin typeface="Arial Black"/>
              </a:rPr>
              <a:t>iRespond Graph</a:t>
            </a: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grpSp>
        <p:nvGrpSpPr>
          <p:cNvPr id="4106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4107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108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4109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4110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67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111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33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112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100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113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100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114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67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4115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4116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117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118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4119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4120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A*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121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B*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122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123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D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124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E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4125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4126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127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128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129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130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131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4132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4133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0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134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135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136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sp>
        <p:nvSpPr>
          <p:cNvPr id="4137" name="PlaceHolder 1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4138" name="PlaceHolder 2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4139" name="PlaceHolder 3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AAEF-97C9-4B08-AE28-B9B66BFA1E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6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417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17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179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418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18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182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418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18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185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4186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418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18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4189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4190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191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192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93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194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195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96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197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198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99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00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201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02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03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204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05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06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207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08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09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210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11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12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213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14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15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216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1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18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219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20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21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222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23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24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225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26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27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228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29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30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231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32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33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234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35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36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4237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38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39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240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41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42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4243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44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45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4246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47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48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249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50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51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252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53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425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4255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grpSp>
              <p:nvGrpSpPr>
                <p:cNvPr id="4256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257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58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59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260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61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62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263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64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65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266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67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68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269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70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71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272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73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74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275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76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77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278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79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80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281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82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83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284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85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86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287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88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4289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290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29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292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293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29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29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296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297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298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299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30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301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302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303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304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30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30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307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308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309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310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</p:grpSp>
      <p:sp>
        <p:nvSpPr>
          <p:cNvPr id="4311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1f08"/>
                </a:solidFill>
                <a:latin typeface="Arial Black"/>
              </a:rPr>
              <a:t>iRespond Graph</a:t>
            </a: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grpSp>
        <p:nvGrpSpPr>
          <p:cNvPr id="4312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4313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314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4315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4316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67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317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33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318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100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319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100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320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67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4321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4322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323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324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4325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4326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A*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327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B*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328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329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D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330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E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4331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4332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333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334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335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336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337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4338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4339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0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340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341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342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sp>
        <p:nvSpPr>
          <p:cNvPr id="4343" name="PlaceHolder 1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4344" name="PlaceHolder 2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4345" name="PlaceHolder 3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68E1-0558-4FE5-B492-6956A7F460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2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4383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84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385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4386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387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388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4389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390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391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4392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4393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394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4395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4396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397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398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399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00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401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02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03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404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05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06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407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08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09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410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11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12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413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14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15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416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17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18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419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20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21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422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23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24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425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26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27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428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29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30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431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32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33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434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35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36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437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38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39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440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41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42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4443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44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45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446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47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48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4449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50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51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4452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53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54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455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56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57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458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59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4460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4461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grpSp>
              <p:nvGrpSpPr>
                <p:cNvPr id="4462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463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64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65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466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67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68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469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70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71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472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73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74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475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76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77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478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79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80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481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82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83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484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85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86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487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88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89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490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91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92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493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94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4495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496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497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498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499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500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501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502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503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504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505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506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507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508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509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510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511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512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513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514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515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516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</p:grpSp>
      <p:sp>
        <p:nvSpPr>
          <p:cNvPr id="4517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1f08"/>
                </a:solidFill>
                <a:latin typeface="Arial Black"/>
              </a:rPr>
              <a:t>iRespond Graph</a:t>
            </a: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grpSp>
        <p:nvGrpSpPr>
          <p:cNvPr id="4518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4519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520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4521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4522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67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523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33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524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100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525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100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526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67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4527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4528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529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530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4531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4532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A*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533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B*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534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535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D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536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E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4537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4538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539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540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541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542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543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4544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4545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0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546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547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548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sp>
        <p:nvSpPr>
          <p:cNvPr id="4549" name="PlaceHolder 1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4550" name="PlaceHolder 2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4551" name="PlaceHolder 3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A454-E249-40B4-81A5-35F90AD795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8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4589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590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591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4592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593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594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4595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596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597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4598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4599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600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4601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4602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603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604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05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06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607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08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09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610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11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12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613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14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15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616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17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18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619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20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21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622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23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24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625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26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27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628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29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30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631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32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33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34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35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36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637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38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39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640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41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42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643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44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45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646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47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48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4649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50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51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652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53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54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4655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56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57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4658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59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60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661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62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63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664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65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4666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4667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grpSp>
              <p:nvGrpSpPr>
                <p:cNvPr id="4668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669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70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71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672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73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74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675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76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77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678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79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80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681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82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83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684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85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86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687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88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89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690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91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92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693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94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95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696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97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98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699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00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4701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02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03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04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05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06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07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08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09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10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11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12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13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14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15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16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17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18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19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20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21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22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</p:grpSp>
      <p:sp>
        <p:nvSpPr>
          <p:cNvPr id="4723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1f08"/>
                </a:solidFill>
                <a:latin typeface="Arial Black"/>
              </a:rPr>
              <a:t>iRespond Graph</a:t>
            </a: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grpSp>
        <p:nvGrpSpPr>
          <p:cNvPr id="4724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4725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726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4727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4728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67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729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33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730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100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731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100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732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67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4733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4734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735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736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4737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4738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A*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739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B*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740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741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D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742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E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4743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4744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745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746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747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748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749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4750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4751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0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752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753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754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sp>
        <p:nvSpPr>
          <p:cNvPr id="4755" name="PlaceHolder 1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4756" name="PlaceHolder 2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4757" name="PlaceHolder 3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B0B1-2362-4EE2-9667-8F060C4010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4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4795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796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97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4798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799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800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4801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802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803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4804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4805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806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4807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4808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809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810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11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12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813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14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15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816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17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18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819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20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21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822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23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24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825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26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27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828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29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30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831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32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33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834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35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36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837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38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39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840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41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42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843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44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45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846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47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48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849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50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51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852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53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54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4855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56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57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858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59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60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4861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62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63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4864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65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66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867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68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69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870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71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4872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4873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grpSp>
              <p:nvGrpSpPr>
                <p:cNvPr id="4874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875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76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77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878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79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80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881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82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83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884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85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86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887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88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89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890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91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92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893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94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95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896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97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98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899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900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901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902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903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904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905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906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4907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908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909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910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911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912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913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914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915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916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917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918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919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920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921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922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923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924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925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926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927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928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</p:grpSp>
      <p:sp>
        <p:nvSpPr>
          <p:cNvPr id="4929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1f08"/>
                </a:solidFill>
                <a:latin typeface="Arial Black"/>
              </a:rPr>
              <a:t>iRespond Graph</a:t>
            </a: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grpSp>
        <p:nvGrpSpPr>
          <p:cNvPr id="4930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4931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932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4933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4934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67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935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33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936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100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937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100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938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67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4939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4940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941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942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4943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4944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A*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945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B*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946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947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D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948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E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4949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4950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951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952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953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954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955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4956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4957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0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958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959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960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sp>
        <p:nvSpPr>
          <p:cNvPr id="4961" name="PlaceHolder 1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4962" name="PlaceHolder 2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4963" name="PlaceHolder 3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1f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62E2-38E0-4AC7-86D0-44AF406F4134}" type="slidenum">
              <a:rPr b="0" lang="en-US" sz="2400" spc="-1" strike="noStrike">
                <a:solidFill>
                  <a:srgbClr val="fe1f08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356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57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58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359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60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61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362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63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64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365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366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67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368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369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70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71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72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73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74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75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76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77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78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79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80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1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2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83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4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5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86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7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8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89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90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1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92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93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4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95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96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7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98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99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0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01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2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3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04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5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6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07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8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9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10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1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12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13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4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15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416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7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18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19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0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1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422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3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4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425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6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7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28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9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30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31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32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433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434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grpSp>
              <p:nvGrpSpPr>
                <p:cNvPr id="435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36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37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38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39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0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1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42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3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4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45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6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7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48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9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0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51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52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3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54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55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6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57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58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9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60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1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2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63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4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5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66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7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468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69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0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1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2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3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4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5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6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7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8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9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80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81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82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83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84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85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86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87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88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89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</p:grpSp>
      <p:sp>
        <p:nvSpPr>
          <p:cNvPr id="490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1f08"/>
                </a:solidFill>
                <a:latin typeface="Arial Black"/>
              </a:rPr>
              <a:t>iRespond Graph</a:t>
            </a: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grpSp>
        <p:nvGrpSpPr>
          <p:cNvPr id="491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492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93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494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495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67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96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33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97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100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98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100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99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67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500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501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502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503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504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505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A*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506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B*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507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508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D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509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E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510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511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512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513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514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515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516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517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518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0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519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520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521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559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60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561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562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563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64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65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6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67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68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69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70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71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72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73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74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75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76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77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78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79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80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81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82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83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84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85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86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87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88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89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90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91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92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93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94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95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96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97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98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99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00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01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02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03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04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05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06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07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08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09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10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11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12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13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14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15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16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17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18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19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20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21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22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23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24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25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26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27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28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29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30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631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32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633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634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35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36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637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38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39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40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41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42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643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44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45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646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47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48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649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50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51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652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53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54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55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56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57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58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59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60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61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62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63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64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65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666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667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668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69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70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71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72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73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74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675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676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677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678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679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680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681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682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683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684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685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686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687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688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689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690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CAFE-82F2-4FC1-864D-744E3E591064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733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734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735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736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737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738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739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740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741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742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743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744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745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746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747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748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9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0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751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52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3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754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55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6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757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58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9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760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61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62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63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64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65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66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67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68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69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0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71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772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3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74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775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6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77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778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9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80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781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82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83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784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85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86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787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88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89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790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91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92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793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94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95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796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97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98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799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00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01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802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03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04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805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06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07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808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09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810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811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grpSp>
              <p:nvGrpSpPr>
                <p:cNvPr id="812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3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14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15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16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17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18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19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0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21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822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3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24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825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6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27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828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9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0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831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32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3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834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35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6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837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38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9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840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41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42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843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44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845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846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847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848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849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850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851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852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853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854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855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856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857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858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859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860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861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862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863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864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865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866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</p:grpSp>
      <p:sp>
        <p:nvSpPr>
          <p:cNvPr id="867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Respond Question Master</a:t>
            </a:r>
            <a:endParaRPr b="0" lang="en-US" sz="4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868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.) Response A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869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.) Response B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870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.) Response C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871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.) Response D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872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.) Response E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873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Percent Complete 100%</a:t>
            </a:r>
            <a:endParaRPr b="0" lang="en-US" sz="1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874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00:30</a:t>
            </a:r>
            <a:endParaRPr b="0" lang="en-US" sz="1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AD5D-A492-49FD-A5CE-BAC893A349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4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915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916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917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918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919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920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921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922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923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924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925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926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927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928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929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930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31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32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933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34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35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936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37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38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939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0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41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942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3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44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945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6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47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948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9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0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951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52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3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954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55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6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957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58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9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960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61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62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63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64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65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66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67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68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9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0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71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72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3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74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975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6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77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978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9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0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981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82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3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984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85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6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987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88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9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990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91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992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993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grpSp>
              <p:nvGrpSpPr>
                <p:cNvPr id="994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995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96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97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998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99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00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001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2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03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004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5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06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007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8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09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010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11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2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013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14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5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16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17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8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19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20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21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22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23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24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025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26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027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028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029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030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031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032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033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034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035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036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037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038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039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040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041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042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043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044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045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046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047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048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</p:grpSp>
      <p:sp>
        <p:nvSpPr>
          <p:cNvPr id="1049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Respond Question Master</a:t>
            </a:r>
            <a:endParaRPr b="0" lang="en-US" sz="4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050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.) Response A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051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.) Response B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052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.) Response C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053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.) Response D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054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.) Response E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055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Percent Complete 100%</a:t>
            </a:r>
            <a:endParaRPr b="0" lang="en-US" sz="1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056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00:30</a:t>
            </a:r>
            <a:endParaRPr b="0" lang="en-US" sz="1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8FAF-9F8E-4ACF-BF70-CDDF6CAE8C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6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09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09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099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110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10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102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110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10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105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1106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0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10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1109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110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111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112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13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14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115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16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17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118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19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20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121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2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23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124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5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26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127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8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29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130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31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32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133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34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35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136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3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38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139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40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41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142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43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44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145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46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47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148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49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50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151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52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53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154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55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56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157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58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59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160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61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62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163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64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65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66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67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68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69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70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71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2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73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117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1175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grpSp>
              <p:nvGrpSpPr>
                <p:cNvPr id="1176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177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78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79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180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81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82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183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84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85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186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87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88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189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90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91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192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93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94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195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96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97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198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99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00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201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02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03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204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05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06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207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08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209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10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1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12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13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1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1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16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17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18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19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2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21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22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23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24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2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2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27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28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29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30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</p:grpSp>
      <p:sp>
        <p:nvSpPr>
          <p:cNvPr id="1231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Respond Question Master</a:t>
            </a:r>
            <a:endParaRPr b="0" lang="en-US" sz="4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232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.) Response A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233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.) Response B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234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.) Response C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235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.) Response D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236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.) Response E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237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Percent Complete 100%</a:t>
            </a:r>
            <a:endParaRPr b="0" lang="en-US" sz="1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238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00:30</a:t>
            </a:r>
            <a:endParaRPr b="0" lang="en-US" sz="1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8A21-4127-4243-BF7A-1B3D7A936C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8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279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280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81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1282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283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84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1285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286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87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1288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289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90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1291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292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293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294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95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96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297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98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99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300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01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02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303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04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05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306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07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08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309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10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11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312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13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14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315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16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17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318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19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20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321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22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23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324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25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26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327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28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29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330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31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32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333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34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35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336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37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38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339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40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41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342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43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44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345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46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47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348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49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50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351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52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53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354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55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1356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1357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grpSp>
              <p:nvGrpSpPr>
                <p:cNvPr id="1358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359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60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61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362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63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64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365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66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67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68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69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70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71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72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73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4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75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76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377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78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79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380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81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82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383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84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85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386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87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88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389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90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391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392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393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394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395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396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397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398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399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400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401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402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403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404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405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406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407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408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409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410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411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412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</p:grpSp>
      <p:sp>
        <p:nvSpPr>
          <p:cNvPr id="1413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Respond Question Master</a:t>
            </a:r>
            <a:endParaRPr b="0" lang="en-US" sz="4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414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.) Response A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415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.) Response B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416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.) Response C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417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.) Response D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418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.) Response E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419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Percent Complete 100%</a:t>
            </a:r>
            <a:endParaRPr b="0" lang="en-US" sz="1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420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00:30</a:t>
            </a:r>
            <a:endParaRPr b="0" lang="en-US" sz="1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0E0B-BC3D-45F4-AD8F-806A43C4FA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46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46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46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146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46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46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146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46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46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147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47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47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147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7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47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47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7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7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47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8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8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48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8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8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48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8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8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48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8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9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49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9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9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49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9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9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49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9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9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50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0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0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50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0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0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50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0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0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50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1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1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51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1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1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51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1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1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51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1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2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52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2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2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52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2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2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52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2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2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53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3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3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53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3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3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53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3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153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153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grpSp>
              <p:nvGrpSpPr>
                <p:cNvPr id="154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54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4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4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54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4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4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54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4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4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55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5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5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55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5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5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55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5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5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55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6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6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56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6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6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56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6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6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56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6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7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7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7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57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57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57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57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57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57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57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58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58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58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58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58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58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58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58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58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58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59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59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59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59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59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</p:grpSp>
      <p:sp>
        <p:nvSpPr>
          <p:cNvPr id="1595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Respond Question Master</a:t>
            </a:r>
            <a:endParaRPr b="0" lang="en-US" sz="4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596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.) Response A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597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.) Response B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598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.) Response C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599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.) Response D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600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.) Response E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601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Percent Complete 100%</a:t>
            </a:r>
            <a:endParaRPr b="0" lang="en-US" sz="1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602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00:30</a:t>
            </a:r>
            <a:endParaRPr b="0" lang="en-US" sz="1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E665-1207-442D-80B2-5720D0D3A2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flnet.com/grammar/comparisons.php" TargetMode="External"/><Relationship Id="rId2" Type="http://schemas.openxmlformats.org/officeDocument/2006/relationships/hyperlink" Target="http://www.eflnet.com/grammar/comparisons.php" TargetMode="External"/><Relationship Id="rId3" Type="http://schemas.openxmlformats.org/officeDocument/2006/relationships/hyperlink" Target="http://www.english-zone.com/spelling/sup1.ht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rainpop.com/english/grammar/adjectives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0" name="PlaceHolder 1"/>
          <p:cNvSpPr>
            <a:spLocks noGrp="1"/>
          </p:cNvSpPr>
          <p:nvPr>
            <p:ph type="title"/>
          </p:nvPr>
        </p:nvSpPr>
        <p:spPr>
          <a:xfrm>
            <a:off x="152280" y="1827360"/>
            <a:ext cx="8305920" cy="503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omparative and Superlativ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djectives and Adverbs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PI 0501.1.3 Identify the correct use of adjectives (i.e., common/proper, </a:t>
            </a:r>
            <a:r>
              <a:rPr b="1" lang="en-US" sz="2800" spc="-1" strike="noStrike">
                <a:solidFill>
                  <a:srgbClr val="fe1f08"/>
                </a:solidFill>
                <a:latin typeface="Arial Black"/>
              </a:rPr>
              <a:t>comparative forms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, predicate adjectives) and adverbs (i.e., </a:t>
            </a:r>
            <a:r>
              <a:rPr b="1" lang="en-US" sz="2800" spc="-1" strike="noStrike">
                <a:solidFill>
                  <a:srgbClr val="fe1f08"/>
                </a:solidFill>
                <a:latin typeface="Arial Black"/>
              </a:rPr>
              <a:t>comparative forms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, negatives) within context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01" name="Text Box 4"/>
          <p:cNvSpPr/>
          <p:nvPr/>
        </p:nvSpPr>
        <p:spPr>
          <a:xfrm>
            <a:off x="838080" y="5073480"/>
            <a:ext cx="762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7" name="PlaceHolder 1"/>
          <p:cNvSpPr>
            <a:spLocks noGrp="1"/>
          </p:cNvSpPr>
          <p:nvPr>
            <p:ph/>
          </p:nvPr>
        </p:nvSpPr>
        <p:spPr>
          <a:xfrm>
            <a:off x="6858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bird sings </a:t>
            </a:r>
            <a:r>
              <a:rPr b="1" lang="en-US" sz="2800" spc="-1" strike="noStrike">
                <a:solidFill>
                  <a:srgbClr val="fe1f08"/>
                </a:solidFill>
                <a:latin typeface="Arial Black"/>
              </a:rPr>
              <a:t>loudly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children sing </a:t>
            </a:r>
            <a:r>
              <a:rPr b="0" lang="en-US" sz="2800" spc="-1" strike="noStrike">
                <a:solidFill>
                  <a:srgbClr val="fe1f08"/>
                </a:solidFill>
                <a:latin typeface="Arial Black"/>
              </a:rPr>
              <a:t>more loudly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than the bird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f all three, Pete sings </a:t>
            </a:r>
            <a:r>
              <a:rPr b="1" lang="en-US" sz="2800" spc="-1" strike="noStrike">
                <a:solidFill>
                  <a:srgbClr val="fe1f08"/>
                </a:solidFill>
                <a:latin typeface="Arial Black"/>
              </a:rPr>
              <a:t>most loudly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038" name="Picture 4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3276720"/>
          </a:xfrm>
          <a:prstGeom prst="rect">
            <a:avLst/>
          </a:prstGeom>
          <a:ln w="0">
            <a:noFill/>
          </a:ln>
        </p:spPr>
      </p:pic>
      <p:pic>
        <p:nvPicPr>
          <p:cNvPr id="5039" name="Picture 6" descr="loud1"/>
          <p:cNvPicPr/>
          <p:nvPr/>
        </p:nvPicPr>
        <p:blipFill>
          <a:blip r:embed="rId2"/>
          <a:stretch/>
        </p:blipFill>
        <p:spPr>
          <a:xfrm>
            <a:off x="914400" y="1600200"/>
            <a:ext cx="1611360" cy="191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40" name=""/>
          <p:cNvGraphicFramePr/>
          <p:nvPr/>
        </p:nvGraphicFramePr>
        <p:xfrm>
          <a:off x="3755880" y="-4799160"/>
          <a:ext cx="625680" cy="1644336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</a:tblGrid>
              <a:tr h="1528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5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5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loud</a:t>
                      </a:r>
                      <a:endParaRPr b="0" lang="en-US" sz="10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louder</a:t>
                      </a:r>
                      <a:endParaRPr b="0" lang="en-US" sz="10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loudest</a:t>
                      </a:r>
                      <a:endParaRPr b="0" lang="en-US" sz="10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41" name="Picture 90" descr=""/>
          <p:cNvPicPr/>
          <p:nvPr/>
        </p:nvPicPr>
        <p:blipFill>
          <a:blip r:embed="rId3"/>
          <a:stretch/>
        </p:blipFill>
        <p:spPr>
          <a:xfrm>
            <a:off x="6477120" y="14479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5042" name="Picture 92" descr="loud3"/>
          <p:cNvPicPr/>
          <p:nvPr/>
        </p:nvPicPr>
        <p:blipFill>
          <a:blip r:embed="rId4"/>
          <a:stretch/>
        </p:blipFill>
        <p:spPr>
          <a:xfrm>
            <a:off x="6400800" y="1295280"/>
            <a:ext cx="1928880" cy="2286000"/>
          </a:xfrm>
          <a:prstGeom prst="rect">
            <a:avLst/>
          </a:prstGeom>
          <a:ln w="0">
            <a:noFill/>
          </a:ln>
        </p:spPr>
      </p:pic>
      <p:sp>
        <p:nvSpPr>
          <p:cNvPr id="5043" name="Text Box 94"/>
          <p:cNvSpPr/>
          <p:nvPr/>
        </p:nvSpPr>
        <p:spPr>
          <a:xfrm>
            <a:off x="457200" y="3492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For adverbs ending in –ly, add “more” to the original adverb to form the comparative, and “most” to form the superlative. </a:t>
            </a: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pic>
        <p:nvPicPr>
          <p:cNvPr id="5044" name="Picture 95" descr="MC900436043[1]"/>
          <p:cNvPicPr/>
          <p:nvPr/>
        </p:nvPicPr>
        <p:blipFill>
          <a:blip r:embed="rId5"/>
          <a:stretch/>
        </p:blipFill>
        <p:spPr>
          <a:xfrm>
            <a:off x="3200400" y="1828800"/>
            <a:ext cx="2254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List of Adverbs in Which -er and -est May Be Added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046" name=""/>
          <p:cNvGraphicFramePr/>
          <p:nvPr/>
        </p:nvGraphicFramePr>
        <p:xfrm>
          <a:off x="685800" y="2438280"/>
          <a:ext cx="7772400" cy="29768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83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Adverb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Comparative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Superlative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quickly</a:t>
                      </a:r>
                      <a:endParaRPr b="0" lang="en-US" sz="20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ore quickly</a:t>
                      </a:r>
                      <a:endParaRPr b="0" lang="en-US" sz="20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ost quickly</a:t>
                      </a:r>
                      <a:endParaRPr b="0" lang="en-US" sz="20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slowly</a:t>
                      </a:r>
                      <a:endParaRPr b="0" lang="en-US" sz="20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ore slowly</a:t>
                      </a:r>
                      <a:endParaRPr b="0" lang="en-US" sz="20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ost slowly</a:t>
                      </a:r>
                      <a:endParaRPr b="0" lang="en-US" sz="20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carefully</a:t>
                      </a:r>
                      <a:endParaRPr b="0" lang="en-US" sz="20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ore carefully</a:t>
                      </a:r>
                      <a:endParaRPr b="0" lang="en-US" sz="20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ore quickly</a:t>
                      </a:r>
                      <a:endParaRPr b="0" lang="en-US" sz="20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often</a:t>
                      </a:r>
                      <a:endParaRPr b="0" lang="en-US" sz="20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ore often</a:t>
                      </a:r>
                      <a:endParaRPr b="0" lang="en-US" sz="20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ost often</a:t>
                      </a:r>
                      <a:endParaRPr b="0" lang="en-US" sz="20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rregular Comparative and Superlative Adjectives and Adverbs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ome comparative and superlative forms are irregular and do not follow any rules or patterns. These must be memoriz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Irregular Adverbs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050" name=""/>
          <p:cNvGraphicFramePr/>
          <p:nvPr/>
        </p:nvGraphicFramePr>
        <p:xfrm>
          <a:off x="685800" y="1981080"/>
          <a:ext cx="7772400" cy="3429000"/>
        </p:xfrm>
        <a:graphic>
          <a:graphicData uri="http://schemas.openxmlformats.org/drawingml/2006/table">
            <a:tbl>
              <a:tblPr/>
              <a:tblGrid>
                <a:gridCol w="1663560"/>
                <a:gridCol w="3187800"/>
                <a:gridCol w="292104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ord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Comparative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Superlative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badly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orse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orst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uch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ore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ost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little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less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least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ell 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better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best 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Now let’s take a look at some irregular adjectives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Irregular Adjectives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054" name=""/>
          <p:cNvGraphicFramePr/>
          <p:nvPr/>
        </p:nvGraphicFramePr>
        <p:xfrm>
          <a:off x="685800" y="1981080"/>
          <a:ext cx="7772400" cy="3575160"/>
        </p:xfrm>
        <a:graphic>
          <a:graphicData uri="http://schemas.openxmlformats.org/drawingml/2006/table">
            <a:tbl>
              <a:tblPr/>
              <a:tblGrid>
                <a:gridCol w="1663560"/>
                <a:gridCol w="3187800"/>
                <a:gridCol w="2921040"/>
              </a:tblGrid>
              <a:tr h="54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ord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Comparative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Superlative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good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better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best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bad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orse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orst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uch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ore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ost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little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less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least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old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older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elder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oldest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eldest 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ample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athan made 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good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tew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olly's stew was 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better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than Nathan'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zra made the 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best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tew of all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ctivities To Practice Adjective and Adverb Comparison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http://www.eflnet.com/grammar/comparisons.php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http://www.eflnet.com/grammar/comparisons.php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http://www.english-zone.com/spelling/sup1.ht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2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djectives and adverbs are words that describe or modify other words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*The </a:t>
            </a:r>
            <a:r>
              <a:rPr b="1" lang="en-US" sz="3200" spc="-1" strike="noStrike">
                <a:solidFill>
                  <a:srgbClr val="fe1f08"/>
                </a:solidFill>
                <a:latin typeface="Arial Black"/>
              </a:rPr>
              <a:t>comparativ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form of an adjective or adverb compares </a:t>
            </a:r>
            <a:r>
              <a:rPr b="1" lang="en-US" sz="3200" spc="-1" strike="noStrike">
                <a:solidFill>
                  <a:srgbClr val="99ff66"/>
                </a:solidFill>
                <a:latin typeface="Arial Black"/>
              </a:rPr>
              <a:t>two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things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*The </a:t>
            </a:r>
            <a:r>
              <a:rPr b="1" lang="en-US" sz="3200" spc="-1" strike="noStrike">
                <a:solidFill>
                  <a:srgbClr val="fe1f08"/>
                </a:solidFill>
                <a:latin typeface="Arial Black"/>
              </a:rPr>
              <a:t>superlativ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form of an adjective or adverb compares </a:t>
            </a:r>
            <a:r>
              <a:rPr b="1" lang="en-US" sz="3200" spc="-1" strike="noStrike">
                <a:solidFill>
                  <a:srgbClr val="99ff66"/>
                </a:solidFill>
                <a:latin typeface="Arial Black"/>
              </a:rPr>
              <a:t>three or mor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thing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rainPop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djectiv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http://www.brainpop.com/english/grammar/adjectives/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ample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djectiv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06" name="PlaceHolder 2"/>
          <p:cNvSpPr>
            <a:spLocks noGrp="1"/>
          </p:cNvSpPr>
          <p:nvPr>
            <p:ph/>
          </p:nvPr>
        </p:nvSpPr>
        <p:spPr>
          <a:xfrm>
            <a:off x="762120" y="4038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arge           larger         larges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first apple is large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second apple is larger than the first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third apple is the largest of the thre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007" name="Picture 10" descr="apple"/>
          <p:cNvPicPr/>
          <p:nvPr/>
        </p:nvPicPr>
        <p:blipFill>
          <a:blip r:embed="rId1"/>
          <a:stretch/>
        </p:blipFill>
        <p:spPr>
          <a:xfrm>
            <a:off x="1143000" y="2514600"/>
            <a:ext cx="1322280" cy="1438200"/>
          </a:xfrm>
          <a:prstGeom prst="rect">
            <a:avLst/>
          </a:prstGeom>
          <a:ln w="0">
            <a:noFill/>
          </a:ln>
        </p:spPr>
      </p:pic>
      <p:pic>
        <p:nvPicPr>
          <p:cNvPr id="5008" name="Picture 13" descr=""/>
          <p:cNvPicPr/>
          <p:nvPr/>
        </p:nvPicPr>
        <p:blipFill>
          <a:blip r:embed="rId2"/>
          <a:stretch/>
        </p:blipFill>
        <p:spPr>
          <a:xfrm>
            <a:off x="5241960" y="0"/>
            <a:ext cx="3902040" cy="3902040"/>
          </a:xfrm>
          <a:prstGeom prst="rect">
            <a:avLst/>
          </a:prstGeom>
          <a:ln w="0">
            <a:noFill/>
          </a:ln>
        </p:spPr>
      </p:pic>
      <p:pic>
        <p:nvPicPr>
          <p:cNvPr id="5009" name="Picture 15" descr="apple"/>
          <p:cNvPicPr/>
          <p:nvPr/>
        </p:nvPicPr>
        <p:blipFill>
          <a:blip r:embed="rId3"/>
          <a:stretch/>
        </p:blipFill>
        <p:spPr>
          <a:xfrm>
            <a:off x="5867280" y="1523880"/>
            <a:ext cx="2303640" cy="2505240"/>
          </a:xfrm>
          <a:prstGeom prst="rect">
            <a:avLst/>
          </a:prstGeom>
          <a:ln w="0">
            <a:noFill/>
          </a:ln>
        </p:spPr>
      </p:pic>
      <p:pic>
        <p:nvPicPr>
          <p:cNvPr id="5010" name="Picture 16" descr="apple"/>
          <p:cNvPicPr/>
          <p:nvPr/>
        </p:nvPicPr>
        <p:blipFill>
          <a:blip r:embed="rId4"/>
          <a:stretch/>
        </p:blipFill>
        <p:spPr>
          <a:xfrm>
            <a:off x="3581280" y="1981080"/>
            <a:ext cx="18129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1" name="PlaceHolder 1"/>
          <p:cNvSpPr>
            <a:spLocks noGrp="1"/>
          </p:cNvSpPr>
          <p:nvPr>
            <p:ph/>
          </p:nvPr>
        </p:nvSpPr>
        <p:spPr>
          <a:xfrm>
            <a:off x="6858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jalopy is a </a:t>
            </a:r>
            <a:r>
              <a:rPr b="0" lang="en-US" sz="4000" spc="-1" strike="noStrike">
                <a:solidFill>
                  <a:srgbClr val="fe1f08"/>
                </a:solidFill>
                <a:latin typeface="Arial Black"/>
              </a:rPr>
              <a:t>fast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ca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racecar is the </a:t>
            </a:r>
            <a:r>
              <a:rPr b="0" lang="en-US" sz="4000" spc="-1" strike="noStrike">
                <a:solidFill>
                  <a:srgbClr val="fe1f08"/>
                </a:solidFill>
                <a:latin typeface="Arial Black"/>
              </a:rPr>
              <a:t>faster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ca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dragster is the </a:t>
            </a:r>
            <a:r>
              <a:rPr b="0" lang="en-US" sz="4000" spc="-1" strike="noStrike">
                <a:solidFill>
                  <a:srgbClr val="fe1f08"/>
                </a:solidFill>
                <a:latin typeface="Arial Black"/>
              </a:rPr>
              <a:t>fastest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ca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012" name="Picture 4" descr=""/>
          <p:cNvPicPr/>
          <p:nvPr/>
        </p:nvPicPr>
        <p:blipFill>
          <a:blip r:embed="rId1"/>
          <a:stretch/>
        </p:blipFill>
        <p:spPr>
          <a:xfrm>
            <a:off x="5486400" y="0"/>
            <a:ext cx="3902040" cy="3902040"/>
          </a:xfrm>
          <a:prstGeom prst="rect">
            <a:avLst/>
          </a:prstGeom>
          <a:ln w="0">
            <a:noFill/>
          </a:ln>
        </p:spPr>
      </p:pic>
      <p:pic>
        <p:nvPicPr>
          <p:cNvPr id="5013" name="Picture 9" descr=""/>
          <p:cNvPicPr/>
          <p:nvPr/>
        </p:nvPicPr>
        <p:blipFill>
          <a:blip r:embed="rId2"/>
          <a:stretch/>
        </p:blipFill>
        <p:spPr>
          <a:xfrm>
            <a:off x="2514600" y="380880"/>
            <a:ext cx="3276720" cy="1433520"/>
          </a:xfrm>
          <a:prstGeom prst="rect">
            <a:avLst/>
          </a:prstGeom>
          <a:ln w="0">
            <a:noFill/>
          </a:ln>
        </p:spPr>
      </p:pic>
      <p:pic>
        <p:nvPicPr>
          <p:cNvPr id="5014" name="Picture 10" descr=""/>
          <p:cNvPicPr/>
          <p:nvPr/>
        </p:nvPicPr>
        <p:blipFill>
          <a:blip r:embed="rId3"/>
          <a:stretch/>
        </p:blipFill>
        <p:spPr>
          <a:xfrm>
            <a:off x="380880" y="1828800"/>
            <a:ext cx="2362320" cy="1471680"/>
          </a:xfrm>
          <a:prstGeom prst="rect">
            <a:avLst/>
          </a:prstGeom>
          <a:ln w="0">
            <a:noFill/>
          </a:ln>
        </p:spPr>
      </p:pic>
      <p:pic>
        <p:nvPicPr>
          <p:cNvPr id="5015" name="Picture 13" descr=""/>
          <p:cNvPicPr/>
          <p:nvPr/>
        </p:nvPicPr>
        <p:blipFill>
          <a:blip r:embed="rId4"/>
          <a:stretch/>
        </p:blipFill>
        <p:spPr>
          <a:xfrm>
            <a:off x="3886200" y="2057400"/>
            <a:ext cx="495288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17" name="Rectangle 19"/>
          <p:cNvSpPr/>
          <p:nvPr/>
        </p:nvSpPr>
        <p:spPr>
          <a:xfrm>
            <a:off x="0" y="137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graphicFrame>
        <p:nvGraphicFramePr>
          <p:cNvPr id="5018" name=""/>
          <p:cNvGraphicFramePr/>
          <p:nvPr/>
        </p:nvGraphicFramePr>
        <p:xfrm>
          <a:off x="4297320" y="1373040"/>
          <a:ext cx="547560" cy="3471840"/>
        </p:xfrm>
        <a:graphic>
          <a:graphicData uri="http://schemas.openxmlformats.org/drawingml/2006/table">
            <a:tbl>
              <a:tblPr/>
              <a:tblGrid>
                <a:gridCol w="547560"/>
              </a:tblGrid>
              <a:tr h="347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19" name="Rectangle 87"/>
          <p:cNvSpPr/>
          <p:nvPr/>
        </p:nvSpPr>
        <p:spPr>
          <a:xfrm>
            <a:off x="4449600" y="4844520"/>
            <a:ext cx="24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graphicFrame>
        <p:nvGraphicFramePr>
          <p:cNvPr id="5020" name=""/>
          <p:cNvGraphicFramePr/>
          <p:nvPr/>
        </p:nvGraphicFramePr>
        <p:xfrm>
          <a:off x="457200" y="3962520"/>
          <a:ext cx="9164520" cy="2508120"/>
        </p:xfrm>
        <a:graphic>
          <a:graphicData uri="http://schemas.openxmlformats.org/drawingml/2006/table">
            <a:tbl>
              <a:tblPr/>
              <a:tblGrid>
                <a:gridCol w="3054240"/>
                <a:gridCol w="3056040"/>
                <a:gridCol w="3054240"/>
              </a:tblGrid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all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all</a:t>
                      </a:r>
                      <a:r>
                        <a:rPr b="0" lang="en-US" sz="24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er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all</a:t>
                      </a:r>
                      <a:r>
                        <a:rPr b="0" lang="en-US" sz="24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est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neat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neater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neatest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deep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deeper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deepest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21" name="Rectangle 148"/>
          <p:cNvSpPr/>
          <p:nvPr/>
        </p:nvSpPr>
        <p:spPr>
          <a:xfrm>
            <a:off x="22320" y="1689840"/>
            <a:ext cx="858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To form the comparative or superlative </a:t>
            </a:r>
            <a:endParaRPr b="0" lang="en-US" sz="2400" spc="-1" strike="noStrike">
              <a:solidFill>
                <a:srgbClr val="fe1f08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of one syllable words with </a:t>
            </a:r>
            <a:endParaRPr b="0" lang="en-US" sz="2400" spc="-1" strike="noStrike">
              <a:solidFill>
                <a:srgbClr val="fe1f08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more than one vowel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 OR </a:t>
            </a: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ending </a:t>
            </a:r>
            <a:endParaRPr b="0" lang="en-US" sz="2400" spc="-1" strike="noStrike">
              <a:solidFill>
                <a:srgbClr val="fe1f08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with more than one consonant 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at the </a:t>
            </a:r>
            <a:endParaRPr b="0" lang="en-US" sz="2400" spc="-1" strike="noStrike">
              <a:solidFill>
                <a:srgbClr val="fe1f08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add </a:t>
            </a:r>
            <a:r>
              <a:rPr b="1" lang="en-US" sz="2400" spc="-1" strike="noStrike">
                <a:solidFill>
                  <a:srgbClr val="fe1f08"/>
                </a:solidFill>
                <a:latin typeface="Verdana"/>
              </a:rPr>
              <a:t>-er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 OR </a:t>
            </a:r>
            <a:r>
              <a:rPr b="1" lang="en-US" sz="2400" spc="-1" strike="noStrike">
                <a:solidFill>
                  <a:srgbClr val="fe1f08"/>
                </a:solidFill>
                <a:latin typeface="Verdana"/>
              </a:rPr>
              <a:t>-est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23" name="Rectangle 3"/>
          <p:cNvSpPr/>
          <p:nvPr/>
        </p:nvSpPr>
        <p:spPr>
          <a:xfrm>
            <a:off x="0" y="137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graphicFrame>
        <p:nvGraphicFramePr>
          <p:cNvPr id="5024" name=""/>
          <p:cNvGraphicFramePr/>
          <p:nvPr/>
        </p:nvGraphicFramePr>
        <p:xfrm>
          <a:off x="4297320" y="1373040"/>
          <a:ext cx="547560" cy="3471840"/>
        </p:xfrm>
        <a:graphic>
          <a:graphicData uri="http://schemas.openxmlformats.org/drawingml/2006/table">
            <a:tbl>
              <a:tblPr/>
              <a:tblGrid>
                <a:gridCol w="547560"/>
              </a:tblGrid>
              <a:tr h="347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25" name="Rectangle 10"/>
          <p:cNvSpPr/>
          <p:nvPr/>
        </p:nvSpPr>
        <p:spPr>
          <a:xfrm>
            <a:off x="4449600" y="4844520"/>
            <a:ext cx="24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graphicFrame>
        <p:nvGraphicFramePr>
          <p:cNvPr id="5026" name=""/>
          <p:cNvGraphicFramePr/>
          <p:nvPr/>
        </p:nvGraphicFramePr>
        <p:xfrm>
          <a:off x="457200" y="3962520"/>
          <a:ext cx="9164520" cy="2508120"/>
        </p:xfrm>
        <a:graphic>
          <a:graphicData uri="http://schemas.openxmlformats.org/drawingml/2006/table">
            <a:tbl>
              <a:tblPr/>
              <a:tblGrid>
                <a:gridCol w="3054240"/>
                <a:gridCol w="3056040"/>
                <a:gridCol w="3054240"/>
              </a:tblGrid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appy 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appier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appiest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jolly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jollier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jolliest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lazy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lazier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laziest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27" name="Rectangle 30"/>
          <p:cNvSpPr/>
          <p:nvPr/>
        </p:nvSpPr>
        <p:spPr>
          <a:xfrm>
            <a:off x="22320" y="2239920"/>
            <a:ext cx="858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To form the comparative or superlative of a </a:t>
            </a: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two syllable word ending in y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, change the y to i, then add -er OR -est. </a:t>
            </a:r>
            <a:endParaRPr b="0" lang="en-US" sz="2400" spc="-1" strike="noStrike">
              <a:solidFill>
                <a:srgbClr val="fe1f08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Things to Remember!!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029" name=""/>
          <p:cNvGraphicFramePr/>
          <p:nvPr/>
        </p:nvGraphicFramePr>
        <p:xfrm>
          <a:off x="0" y="1066680"/>
          <a:ext cx="9144000" cy="55468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Adjective form</a:t>
                      </a:r>
                      <a:endParaRPr b="0" lang="en-US" sz="1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Comparative</a:t>
                      </a:r>
                      <a:endParaRPr b="0" lang="en-US" sz="1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Superlative</a:t>
                      </a:r>
                      <a:endParaRPr b="0" lang="en-US" sz="1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Only one syllable, with more than one vowel or more than one consonant at the end. Examples:</a:t>
                      </a:r>
                      <a:br>
                        <a:rPr sz="1400"/>
                      </a:br>
                      <a:r>
                        <a:rPr b="0" i="1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light, neat, fast, tall, neat, deep</a:t>
                      </a:r>
                      <a:endParaRPr b="0" lang="en-US" sz="1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Add -er:</a:t>
                      </a:r>
                      <a:br>
                        <a:rPr sz="1400"/>
                      </a:br>
                      <a:r>
                        <a:rPr b="0" i="1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lighter, neater, faster, taller, neater, deeper</a:t>
                      </a:r>
                      <a:endParaRPr b="0" lang="en-US" sz="1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Add -est:</a:t>
                      </a:r>
                      <a:br>
                        <a:rPr sz="1400"/>
                      </a:br>
                      <a:r>
                        <a:rPr b="0" i="1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lightest, neatest, fastest, tallest. neatest, deepest</a:t>
                      </a:r>
                      <a:endParaRPr b="0" lang="en-US" sz="1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Only one syllable, ending in E. Examples:</a:t>
                      </a:r>
                      <a:br>
                        <a:rPr sz="1400"/>
                      </a:br>
                      <a:r>
                        <a:rPr b="0" i="1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ide, fine, cute</a:t>
                      </a: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Add -r:</a:t>
                      </a:r>
                      <a:br>
                        <a:rPr sz="1400"/>
                      </a:br>
                      <a:r>
                        <a:rPr b="0" i="1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ider, finer, cuter</a:t>
                      </a: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Add -st:</a:t>
                      </a:r>
                      <a:br>
                        <a:rPr sz="1400"/>
                      </a:br>
                      <a:r>
                        <a:rPr b="0" i="1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idest, finest, cutest</a:t>
                      </a: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Only one syllable, with one vowel and one consonant at the end. Examples:</a:t>
                      </a:r>
                      <a:br>
                        <a:rPr sz="1400"/>
                      </a:br>
                      <a:r>
                        <a:rPr b="0" i="1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ot, big, fat, sad</a:t>
                      </a:r>
                      <a:endParaRPr b="0" lang="en-US" sz="1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Double the consonant, and add -er:</a:t>
                      </a:r>
                      <a:br>
                        <a:rPr sz="1400"/>
                      </a:br>
                      <a:r>
                        <a:rPr b="0" i="1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otter, bigger, fatter, sadder</a:t>
                      </a:r>
                      <a:endParaRPr b="0" lang="en-US" sz="1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Double the consonant, and add -est:</a:t>
                      </a:r>
                      <a:br>
                        <a:rPr sz="1400"/>
                      </a:br>
                      <a:r>
                        <a:rPr b="0" i="1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ottest, biggest, fattest, saddest</a:t>
                      </a:r>
                      <a:endParaRPr b="0" lang="en-US" sz="1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wo syllables, ending in Y. Examples:</a:t>
                      </a:r>
                      <a:br>
                        <a:rPr sz="1400"/>
                      </a:br>
                      <a:r>
                        <a:rPr b="0" i="1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appy, silly, lonely, jolly</a:t>
                      </a:r>
                      <a:endParaRPr b="0" lang="en-US" sz="1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Change y to i, then add -er:</a:t>
                      </a:r>
                      <a:br>
                        <a:rPr sz="1400"/>
                      </a:br>
                      <a:r>
                        <a:rPr b="0" i="1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appier, sillier, lonelier, jollier</a:t>
                      </a:r>
                      <a:endParaRPr b="0" lang="en-US" sz="1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Change y to i, then add -est:</a:t>
                      </a:r>
                      <a:br>
                        <a:rPr sz="1400"/>
                      </a:br>
                      <a:r>
                        <a:rPr b="0" i="1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appiest, silliest, loneliest, jolliest</a:t>
                      </a:r>
                      <a:endParaRPr b="0" lang="en-US" sz="1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wo syllable word ending in a vowel-sound that is not stressed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yellow, simple</a:t>
                      </a:r>
                      <a:endParaRPr b="0" lang="en-US" sz="1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Add -er: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yellower, simpler</a:t>
                      </a:r>
                      <a:endParaRPr b="0" lang="en-US" sz="1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Add -est: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yellowest, simplest</a:t>
                      </a:r>
                      <a:endParaRPr b="0" lang="en-US" sz="1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wo syllables or more, not ending in Y. Examples:</a:t>
                      </a:r>
                      <a:br>
                        <a:rPr sz="1400"/>
                      </a:br>
                      <a:r>
                        <a:rPr b="0" i="1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odern, interesting, beautiful</a:t>
                      </a: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, </a:t>
                      </a:r>
                      <a:endParaRPr b="0" lang="en-US" sz="1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Use more before the adjective:</a:t>
                      </a:r>
                      <a:br>
                        <a:rPr sz="1400"/>
                      </a:br>
                      <a:r>
                        <a:rPr b="0" i="1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ore modern, more interesting, more beautiful</a:t>
                      </a: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Use most before the adjective:</a:t>
                      </a:r>
                      <a:br>
                        <a:rPr sz="1400"/>
                      </a:br>
                      <a:r>
                        <a:rPr b="0" i="1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ost modern, most interesting, most beautiful</a:t>
                      </a: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30" name="Rectangle 152"/>
          <p:cNvSpPr/>
          <p:nvPr/>
        </p:nvSpPr>
        <p:spPr>
          <a:xfrm>
            <a:off x="767520" y="5223600"/>
            <a:ext cx="21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c00"/>
                </a:solidFill>
                <a:latin typeface="Verdana"/>
              </a:rPr>
              <a:t> </a:t>
            </a:r>
            <a:endParaRPr b="0" lang="en-US" sz="1000" spc="-1" strike="noStrike">
              <a:solidFill>
                <a:srgbClr val="fe1f08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ike adjectives, some adverbs ca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ake comparative and superla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ms, with -er and –est. 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2" name="PlaceHolder 2"/>
          <p:cNvSpPr>
            <a:spLocks noGrp="1"/>
          </p:cNvSpPr>
          <p:nvPr>
            <p:ph/>
          </p:nvPr>
        </p:nvSpPr>
        <p:spPr>
          <a:xfrm>
            <a:off x="609480" y="4191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ally works </a:t>
            </a:r>
            <a:r>
              <a:rPr b="0" lang="en-US" sz="3200" spc="-1" strike="noStrike">
                <a:solidFill>
                  <a:srgbClr val="fe1f08"/>
                </a:solidFill>
                <a:latin typeface="Arial Black"/>
              </a:rPr>
              <a:t>hard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teve works </a:t>
            </a:r>
            <a:r>
              <a:rPr b="0" lang="en-US" sz="3200" spc="-1" strike="noStrike">
                <a:solidFill>
                  <a:srgbClr val="fe1f08"/>
                </a:solidFill>
                <a:latin typeface="Arial Black"/>
              </a:rPr>
              <a:t>harder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than Sall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Kathy and Sue work </a:t>
            </a:r>
            <a:r>
              <a:rPr b="0" lang="en-US" sz="3200" spc="-1" strike="noStrike">
                <a:solidFill>
                  <a:srgbClr val="fe1f08"/>
                </a:solidFill>
                <a:latin typeface="Arial Black"/>
              </a:rPr>
              <a:t>hardest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of all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033" name="Picture 4" descr=""/>
          <p:cNvPicPr/>
          <p:nvPr/>
        </p:nvPicPr>
        <p:blipFill>
          <a:blip r:embed="rId1"/>
          <a:stretch/>
        </p:blipFill>
        <p:spPr>
          <a:xfrm>
            <a:off x="6172200" y="0"/>
            <a:ext cx="2971800" cy="3200400"/>
          </a:xfrm>
          <a:prstGeom prst="rect">
            <a:avLst/>
          </a:prstGeom>
          <a:ln w="0">
            <a:noFill/>
          </a:ln>
        </p:spPr>
      </p:pic>
      <p:pic>
        <p:nvPicPr>
          <p:cNvPr id="5034" name="Picture 6" descr="work1"/>
          <p:cNvPicPr/>
          <p:nvPr/>
        </p:nvPicPr>
        <p:blipFill>
          <a:blip r:embed="rId2"/>
          <a:stretch/>
        </p:blipFill>
        <p:spPr>
          <a:xfrm>
            <a:off x="914400" y="2057400"/>
            <a:ext cx="2133720" cy="1946160"/>
          </a:xfrm>
          <a:prstGeom prst="rect">
            <a:avLst/>
          </a:prstGeom>
          <a:ln w="0">
            <a:noFill/>
          </a:ln>
        </p:spPr>
      </p:pic>
      <p:pic>
        <p:nvPicPr>
          <p:cNvPr id="5035" name="Picture 8" descr="work2"/>
          <p:cNvPicPr/>
          <p:nvPr/>
        </p:nvPicPr>
        <p:blipFill>
          <a:blip r:embed="rId3"/>
          <a:stretch/>
        </p:blipFill>
        <p:spPr>
          <a:xfrm>
            <a:off x="3505320" y="1981080"/>
            <a:ext cx="2286000" cy="2027520"/>
          </a:xfrm>
          <a:prstGeom prst="rect">
            <a:avLst/>
          </a:prstGeom>
          <a:ln w="0">
            <a:noFill/>
          </a:ln>
        </p:spPr>
      </p:pic>
      <p:pic>
        <p:nvPicPr>
          <p:cNvPr id="5036" name="Picture 10" descr="work3"/>
          <p:cNvPicPr/>
          <p:nvPr/>
        </p:nvPicPr>
        <p:blipFill>
          <a:blip r:embed="rId4"/>
          <a:stretch/>
        </p:blipFill>
        <p:spPr>
          <a:xfrm>
            <a:off x="6248520" y="1841400"/>
            <a:ext cx="220968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23:21:32Z</dcterms:created>
  <dc:creator>Gay  Miller</dc:creator>
  <dc:description/>
  <dc:language>en-US</dc:language>
  <cp:lastModifiedBy>Nadia Williams</cp:lastModifiedBy>
  <dcterms:modified xsi:type="dcterms:W3CDTF">2014-03-19T14:35:03Z</dcterms:modified>
  <cp:revision>33</cp:revision>
  <dc:subject/>
  <dc:title>Comparative and Superlative Adjectives and Adverb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owPercent">
    <vt:bool>1</vt:bool>
  </property>
  <property fmtid="{D5CDD505-2E9C-101B-9397-08002B2CF9AE}" pid="3" name="ShowTimer">
    <vt:bool>1</vt:bool>
  </property>
</Properties>
</file>